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88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896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7008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401436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42946C5-AB3A-4D85-8484-280CA4366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F9D2627-520B-4AE2-AAFB-91FE5C928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F03DC66-7A43-4FB7-A79D-7422447FC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694F9D0-2B08-4445-8865-11D4F2981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D3C3178-DF6D-4603-8BAB-330F1735F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7B8A431-08EA-49E6-AB41-D46201572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12EEF25-A4F5-45A9-8A19-26ECC7B6F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2A7D59B-5701-4E46-9248-6D8410890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4ED0F4A-66EF-4C5B-A9F2-A2086669B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35441AC-9019-42B9-9EC4-BC4D77753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1DD041F-A6E0-4742-9C97-320B299B5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A8BEC5F-E110-4E6D-B3BA-EA088A658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0C06D7B-E79F-4ED4-95ED-B335ADB9D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CD2824B-B9C8-43AF-BF2C-7C98874AE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8DDFB35-F991-497A-BE20-9EE758CC3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human_legacy_CONTENT_full"/>
          <p:cNvPicPr/>
          <p:nvPr/>
        </p:nvPicPr>
        <p:blipFill>
          <a:blip r:embed="rId2"/>
          <a:stretch/>
        </p:blipFill>
        <p:spPr>
          <a:xfrm>
            <a:off x="-60480" y="-46080"/>
            <a:ext cx="9204480" cy="690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human_legacy_CONTENT_full"/>
          <p:cNvPicPr/>
          <p:nvPr/>
        </p:nvPicPr>
        <p:blipFill>
          <a:blip r:embed="rId3"/>
          <a:stretch/>
        </p:blipFill>
        <p:spPr>
          <a:xfrm>
            <a:off x="-60480" y="-46080"/>
            <a:ext cx="9204480" cy="69040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8" descr="human_legacy_CONTENT_full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Text Box 19"/>
          <p:cNvSpPr/>
          <p:nvPr/>
        </p:nvSpPr>
        <p:spPr>
          <a:xfrm>
            <a:off x="152280" y="39600"/>
            <a:ext cx="518184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Kingdoms and 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20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1">
            <a:hlinkClick r:id="" action="ppaction://hlinkshowjump?jump=previousslide"/>
          </p:cNvPr>
          <p:cNvSpPr/>
          <p:nvPr/>
        </p:nvSpPr>
        <p:spPr>
          <a:xfrm>
            <a:off x="4724280" y="6191280"/>
            <a:ext cx="99072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2">
            <a:hlinkClick r:id="" action="ppaction://hlinkshowjump?jump=nextslide"/>
          </p:cNvPr>
          <p:cNvSpPr/>
          <p:nvPr/>
        </p:nvSpPr>
        <p:spPr>
          <a:xfrm>
            <a:off x="5791320" y="6191280"/>
            <a:ext cx="99036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3"/>
          <p:cNvSpPr/>
          <p:nvPr/>
        </p:nvSpPr>
        <p:spPr>
          <a:xfrm>
            <a:off x="6915240" y="6172200"/>
            <a:ext cx="99036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4">
            <a:hlinkClick r:id="" action="ppaction://hlinkshowjump?jump=endshow"/>
          </p:cNvPr>
          <p:cNvSpPr/>
          <p:nvPr/>
        </p:nvSpPr>
        <p:spPr>
          <a:xfrm>
            <a:off x="8134200" y="6172200"/>
            <a:ext cx="68580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Idea / 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us and Ki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: The Growth of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ianity in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 under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s of History: Alexander Nev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Rise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57200" y="863640"/>
            <a:ext cx="8229600" cy="20779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Christianity spread to Rus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82760" y="322740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nks from the Byzantine Empire traveled to Moravia and established the Cyrillic alphabet and a Slavonic mass to spread Christia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3"/>
          <p:cNvGrpSpPr/>
          <p:nvPr/>
        </p:nvGrpSpPr>
        <p:grpSpPr>
          <a:xfrm>
            <a:off x="533520" y="2509920"/>
            <a:ext cx="2590560" cy="3433320"/>
            <a:chOff x="533520" y="2509920"/>
            <a:chExt cx="2590560" cy="3433320"/>
          </a:xfrm>
        </p:grpSpPr>
        <p:sp>
          <p:nvSpPr>
            <p:cNvPr id="92" name="Text Box 4"/>
            <p:cNvSpPr/>
            <p:nvPr/>
          </p:nvSpPr>
          <p:spPr>
            <a:xfrm>
              <a:off x="533520" y="2879280"/>
              <a:ext cx="2590560" cy="30639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fter death of Yaroslav, internal disputes common among R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in threat from princes whose lands were within state’s bor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33520" y="2509920"/>
              <a:ext cx="2590560" cy="3693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2"/>
          <p:cNvSpPr/>
          <p:nvPr/>
        </p:nvSpPr>
        <p:spPr>
          <a:xfrm>
            <a:off x="533520" y="1143000"/>
            <a:ext cx="8076960" cy="119124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the mid-1000s, Kievan Rus reached the height of its power as a center of trade and culture. But by the end of the 1200s, it had suffered a steep decline. Kievan Rus was under attack—first by princes within its borders, and later by invaders from bey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6"/>
          <p:cNvGrpSpPr/>
          <p:nvPr/>
        </p:nvGrpSpPr>
        <p:grpSpPr>
          <a:xfrm>
            <a:off x="3276720" y="2509920"/>
            <a:ext cx="2590560" cy="3433320"/>
            <a:chOff x="3276720" y="2509920"/>
            <a:chExt cx="2590560" cy="3433320"/>
          </a:xfrm>
        </p:grpSpPr>
        <p:sp>
          <p:nvSpPr>
            <p:cNvPr id="96" name="Text Box 7"/>
            <p:cNvSpPr/>
            <p:nvPr/>
          </p:nvSpPr>
          <p:spPr>
            <a:xfrm>
              <a:off x="3276720" y="2879280"/>
              <a:ext cx="2590560" cy="306396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nces wanted to enlarge l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69, one such prince, Andrew Bogolyubsky, captured Kiev, became new grand pri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3276720" y="2509920"/>
              <a:ext cx="2590560" cy="36936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ogolyubsk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9"/>
          <p:cNvGrpSpPr/>
          <p:nvPr/>
        </p:nvGrpSpPr>
        <p:grpSpPr>
          <a:xfrm>
            <a:off x="6019920" y="2509920"/>
            <a:ext cx="2590560" cy="3433320"/>
            <a:chOff x="6019920" y="2509920"/>
            <a:chExt cx="2590560" cy="3433320"/>
          </a:xfrm>
        </p:grpSpPr>
        <p:sp>
          <p:nvSpPr>
            <p:cNvPr id="99" name="Text Box 10"/>
            <p:cNvSpPr/>
            <p:nvPr/>
          </p:nvSpPr>
          <p:spPr>
            <a:xfrm>
              <a:off x="6019920" y="2879280"/>
              <a:ext cx="2590560" cy="30639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rew insisted on ruling from home city, Vladim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urther weakened Kiev’s position as the capi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age set for fierce attacks from Europe, As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1"/>
            <p:cNvSpPr/>
            <p:nvPr/>
          </p:nvSpPr>
          <p:spPr>
            <a:xfrm>
              <a:off x="6019920" y="2509920"/>
              <a:ext cx="2590560" cy="3693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tage S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12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ssia under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33520" y="2514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ievan Rus Weake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57200" y="1143000"/>
            <a:ext cx="8229600" cy="14479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Mong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s, Mongols, led by Genghis Khan, swept across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ghis Khan and Mongols created immens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gol raiders defeated Rus and their allies in 12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457200" y="4343400"/>
            <a:ext cx="8229600" cy="152388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aster Avo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gols mostly left local princes in charge, did not interfere with 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 Alexander encouraged Russians not to rebel against new ma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result Mongols did not destroy as much as in other 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457200" y="2743200"/>
            <a:ext cx="8229600" cy="144792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d of Kievan Ru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27, Genghis Khan died, empire divided into four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40, Kiev fell to Mongols led by Batu K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gol state established in southern Russia; Kievan Rus dominance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hreat from th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4660920" y="1143000"/>
            <a:ext cx="4025520" cy="4723920"/>
            <a:chOff x="4660920" y="1143000"/>
            <a:chExt cx="4025520" cy="4723920"/>
          </a:xfrm>
        </p:grpSpPr>
        <p:sp>
          <p:nvSpPr>
            <p:cNvPr id="109" name="Text Box 3"/>
            <p:cNvSpPr/>
            <p:nvPr/>
          </p:nvSpPr>
          <p:spPr>
            <a:xfrm>
              <a:off x="4660920" y="1651320"/>
              <a:ext cx="4025520" cy="4215600"/>
            </a:xfrm>
            <a:prstGeom prst="rect">
              <a:avLst/>
            </a:prstGeom>
            <a:solidFill>
              <a:srgbClr val="e2f4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me Prince Alexander who calmed Mongol threat, turned attention to Swe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49"/>
                </a:spcBef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uly 15, 1240, Alexander launched surprise attack against Swedish camp on Neva R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49"/>
                </a:spcBef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wedes defeated; Russia saved from full-scale invasion from nor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4"/>
            <p:cNvSpPr/>
            <p:nvPr/>
          </p:nvSpPr>
          <p:spPr>
            <a:xfrm>
              <a:off x="4660920" y="1143000"/>
              <a:ext cx="4025520" cy="508320"/>
            </a:xfrm>
            <a:prstGeom prst="rect">
              <a:avLst/>
            </a:prstGeom>
            <a:solidFill>
              <a:srgbClr val="e2f4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ince Alexan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5"/>
          <p:cNvGrpSpPr/>
          <p:nvPr/>
        </p:nvGrpSpPr>
        <p:grpSpPr>
          <a:xfrm>
            <a:off x="457200" y="1143000"/>
            <a:ext cx="4025520" cy="4723920"/>
            <a:chOff x="457200" y="1143000"/>
            <a:chExt cx="4025520" cy="4723920"/>
          </a:xfrm>
        </p:grpSpPr>
        <p:sp>
          <p:nvSpPr>
            <p:cNvPr id="112" name="Text Box 6"/>
            <p:cNvSpPr/>
            <p:nvPr/>
          </p:nvSpPr>
          <p:spPr>
            <a:xfrm>
              <a:off x="457200" y="1651320"/>
              <a:ext cx="4025520" cy="421560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t same time Mongols attacked Rus, danger came from different dir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49"/>
                </a:spcBef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240, band of Swedes invaded Russian territory north of Novgor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49"/>
                </a:spcBef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wedes wanted to take control of lucrative trade route between Russia, Byzantine Emp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7"/>
            <p:cNvSpPr/>
            <p:nvPr/>
          </p:nvSpPr>
          <p:spPr>
            <a:xfrm>
              <a:off x="457200" y="1143000"/>
              <a:ext cx="4025520" cy="50832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we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8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hreat from the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457200" y="1143000"/>
            <a:ext cx="8229600" cy="13453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ander known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exander Nevs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fter vi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ished by city of Novgorod after meddling in internal aff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other invader threatened, Novgorod turned again to Alex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457200" y="2590920"/>
            <a:ext cx="4038120" cy="3351960"/>
            <a:chOff x="457200" y="2590920"/>
            <a:chExt cx="4038120" cy="3351960"/>
          </a:xfrm>
        </p:grpSpPr>
        <p:sp>
          <p:nvSpPr>
            <p:cNvPr id="117" name="Text Box 4"/>
            <p:cNvSpPr/>
            <p:nvPr/>
          </p:nvSpPr>
          <p:spPr>
            <a:xfrm>
              <a:off x="457200" y="3177000"/>
              <a:ext cx="4038120" cy="27658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rman military order of knights wanted to force Russians to abandon Orthodox Church, convert to Roman Catholici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utonic Knights invaded from Baltic Sea; Alexander fought several battles with th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5"/>
            <p:cNvSpPr/>
            <p:nvPr/>
          </p:nvSpPr>
          <p:spPr>
            <a:xfrm>
              <a:off x="457200" y="2590920"/>
              <a:ext cx="4038120" cy="5860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eutonic Kn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6"/>
          <p:cNvGrpSpPr/>
          <p:nvPr/>
        </p:nvGrpSpPr>
        <p:grpSpPr>
          <a:xfrm>
            <a:off x="4648320" y="2590920"/>
            <a:ext cx="4038120" cy="3351960"/>
            <a:chOff x="4648320" y="2590920"/>
            <a:chExt cx="4038120" cy="3351960"/>
          </a:xfrm>
        </p:grpSpPr>
        <p:sp>
          <p:nvSpPr>
            <p:cNvPr id="120" name="Text Box 7"/>
            <p:cNvSpPr/>
            <p:nvPr/>
          </p:nvSpPr>
          <p:spPr>
            <a:xfrm>
              <a:off x="4648320" y="3177000"/>
              <a:ext cx="4038120" cy="27658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ril 1242, Alexander’s army lured Knights onto thinning i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ce cracked; men, horses fell into freezing w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ttle known as massacre on the ice, one of Russia’s most famo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vsky celebrated as he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8"/>
            <p:cNvSpPr/>
            <p:nvPr/>
          </p:nvSpPr>
          <p:spPr>
            <a:xfrm>
              <a:off x="4648320" y="2590920"/>
              <a:ext cx="4038120" cy="5860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assacre on the 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asion from the Bal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p359"/>
          <p:cNvPicPr/>
          <p:nvPr/>
        </p:nvPicPr>
        <p:blipFill>
          <a:blip r:embed="rId1"/>
          <a:stretch/>
        </p:blipFill>
        <p:spPr>
          <a:xfrm>
            <a:off x="1122480" y="878040"/>
            <a:ext cx="68976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533520" y="1143000"/>
            <a:ext cx="8076960" cy="7621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ore than 200 years after Alexander’s battles, Russia remained under the control of Asian nomadic peoples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533520" y="1981080"/>
            <a:ext cx="3885840" cy="3962160"/>
            <a:chOff x="533520" y="1981080"/>
            <a:chExt cx="3885840" cy="3962160"/>
          </a:xfrm>
        </p:grpSpPr>
        <p:sp>
          <p:nvSpPr>
            <p:cNvPr id="126" name="Text Box 4"/>
            <p:cNvSpPr/>
            <p:nvPr/>
          </p:nvSpPr>
          <p:spPr>
            <a:xfrm>
              <a:off x="533520" y="2407320"/>
              <a:ext cx="3885840" cy="3535920"/>
            </a:xfrm>
            <a:prstGeom prst="rect">
              <a:avLst/>
            </a:prstGeom>
            <a:solidFill>
              <a:srgbClr val="f8c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atars, central Asian people who spoke a Turkic language, emerged as Russia’s rulers after Mongo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80, Russia eventually freed from foreign domin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"/>
            <p:cNvSpPr/>
            <p:nvPr/>
          </p:nvSpPr>
          <p:spPr>
            <a:xfrm>
              <a:off x="533520" y="1981080"/>
              <a:ext cx="3885840" cy="426240"/>
            </a:xfrm>
            <a:prstGeom prst="rect">
              <a:avLst/>
            </a:prstGeom>
            <a:solidFill>
              <a:srgbClr val="f8c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ata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6"/>
          <p:cNvGrpSpPr/>
          <p:nvPr/>
        </p:nvGrpSpPr>
        <p:grpSpPr>
          <a:xfrm>
            <a:off x="4724280" y="1981080"/>
            <a:ext cx="3885840" cy="3962160"/>
            <a:chOff x="4724280" y="1981080"/>
            <a:chExt cx="3885840" cy="3962160"/>
          </a:xfrm>
        </p:grpSpPr>
        <p:sp>
          <p:nvSpPr>
            <p:cNvPr id="129" name="Text Box 7"/>
            <p:cNvSpPr/>
            <p:nvPr/>
          </p:nvSpPr>
          <p:spPr>
            <a:xfrm>
              <a:off x="4724280" y="2407320"/>
              <a:ext cx="3885840" cy="35359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uscovy, east of Kiev, grew in importance within Russ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came capital of nation that gradually expanded to occupy much of As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4724280" y="1981080"/>
              <a:ext cx="3885840" cy="42624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uscov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Kiev to Musc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57200" y="825480"/>
            <a:ext cx="8229600" cy="26179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eople first invaded Russia in 1223? What other groups inva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82760" y="37227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ngols; Swedes, Ger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457200" y="2971800"/>
            <a:ext cx="8229600" cy="28954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id the Rus affect the early history of Kiev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factors helped establish Christianity in Russi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peoples attacked Russi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57200" y="1143000"/>
            <a:ext cx="8229600" cy="16765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ing as a blend of Slavs and northern Europeans, the Russians organized as a state, became Christian, and fought invad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se of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1143000"/>
            <a:ext cx="8076960" cy="7621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ousands of years, hunter-gatherers managed to make a living in the sometimes harsh climate of what we now call Ukraine and Russia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533520" y="1981080"/>
            <a:ext cx="3885840" cy="3962160"/>
            <a:chOff x="533520" y="1981080"/>
            <a:chExt cx="3885840" cy="3962160"/>
          </a:xfrm>
        </p:grpSpPr>
        <p:sp>
          <p:nvSpPr>
            <p:cNvPr id="59" name="Text Box 4"/>
            <p:cNvSpPr/>
            <p:nvPr/>
          </p:nvSpPr>
          <p:spPr>
            <a:xfrm>
              <a:off x="533520" y="2407320"/>
              <a:ext cx="3885840" cy="35359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lavs among those who occupied pla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tered historical record AD 800s, as written i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he Russian Primary Chroni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uring mid-800s, Slavs along Dnieper River fighting among selves; asked for help from northern Europeans, called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5"/>
            <p:cNvSpPr/>
            <p:nvPr/>
          </p:nvSpPr>
          <p:spPr>
            <a:xfrm>
              <a:off x="533520" y="1981080"/>
              <a:ext cx="3885840" cy="4262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he Rus of Kie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6"/>
          <p:cNvGrpSpPr/>
          <p:nvPr/>
        </p:nvGrpSpPr>
        <p:grpSpPr>
          <a:xfrm>
            <a:off x="4724280" y="1981080"/>
            <a:ext cx="3885840" cy="3962160"/>
            <a:chOff x="4724280" y="1981080"/>
            <a:chExt cx="3885840" cy="3962160"/>
          </a:xfrm>
        </p:grpSpPr>
        <p:sp>
          <p:nvSpPr>
            <p:cNvPr id="62" name="Text Box 7"/>
            <p:cNvSpPr/>
            <p:nvPr/>
          </p:nvSpPr>
          <p:spPr>
            <a:xfrm>
              <a:off x="4724280" y="2407320"/>
              <a:ext cx="3885840" cy="35359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ree brothers, Rus people migrated to Novgorod, trading center; oldest brother, Rurik, brought order to Slav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82, Rurik’s successor, Oleg, ventured further south to Kiev, united reg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7 Oleg wanted to extend Kiev south, successfully attacked Constantino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8"/>
            <p:cNvSpPr/>
            <p:nvPr/>
          </p:nvSpPr>
          <p:spPr>
            <a:xfrm>
              <a:off x="4724280" y="1981080"/>
              <a:ext cx="3885840" cy="42624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r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us and Ki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57200" y="3352680"/>
            <a:ext cx="8229600" cy="243864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roslav th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evan region became state called Kievan 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height of Kievan Rus’ power, prestige, ruler w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roslav the 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19, Yaroslav became grand prince, ruled until 10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e many cultural, administrative improvements to Kievan 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457200" y="914400"/>
            <a:ext cx="8229600" cy="22096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owth of K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eg’s victory produced advantageous trade agreement, beginning of close connection between Byzantine Empire, Russian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 900s, Rus extended control far beyond Ki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ated Khazars, freed several Slavic tribes Khazars had contro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tural and Administrative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ed religious books, hired scribes to translate from Greek into Slav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an ambitious building program to beautify Ki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itary record was m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ained lost territory, defeated nomadic Pechene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ed to attack Constantinople, but forces were cru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successful dealing with western Euro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good diplomatic, trade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nged marriages between daughters, European pri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p357"/>
          <p:cNvPicPr/>
          <p:nvPr/>
        </p:nvPicPr>
        <p:blipFill>
          <a:blip r:embed="rId1"/>
          <a:stretch/>
        </p:blipFill>
        <p:spPr>
          <a:xfrm>
            <a:off x="2540160" y="658800"/>
            <a:ext cx="4367160" cy="52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888840"/>
            <a:ext cx="8229600" cy="24894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ere the Rus, and what was their connection to Kie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82760" y="363384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group of northern Europeans—perhaps Vikings—who came to rule the Slav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9"/>
          <p:cNvGrpSpPr/>
          <p:nvPr/>
        </p:nvGrpSpPr>
        <p:grpSpPr>
          <a:xfrm>
            <a:off x="4660920" y="1143000"/>
            <a:ext cx="4025520" cy="4723920"/>
            <a:chOff x="4660920" y="1143000"/>
            <a:chExt cx="4025520" cy="4723920"/>
          </a:xfrm>
        </p:grpSpPr>
        <p:sp>
          <p:nvSpPr>
            <p:cNvPr id="76" name="Text Box 20"/>
            <p:cNvSpPr/>
            <p:nvPr/>
          </p:nvSpPr>
          <p:spPr>
            <a:xfrm>
              <a:off x="4660920" y="1651320"/>
              <a:ext cx="4025520" cy="421560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sed Slavonic language to celebrate mass; use of native language helped convert many Moravia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two developed written alphabet for Slavonic language, based on Greek alphabet, called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yrillic alphab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anks to Cyril, Methodius Byzantine version of Christianity spread to Russ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1"/>
            <p:cNvSpPr/>
            <p:nvPr/>
          </p:nvSpPr>
          <p:spPr>
            <a:xfrm>
              <a:off x="4660920" y="1143000"/>
              <a:ext cx="4025520" cy="5083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lavonic M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5"/>
          <p:cNvGrpSpPr/>
          <p:nvPr/>
        </p:nvGrpSpPr>
        <p:grpSpPr>
          <a:xfrm>
            <a:off x="457200" y="1143000"/>
            <a:ext cx="4025520" cy="4723920"/>
            <a:chOff x="457200" y="1143000"/>
            <a:chExt cx="4025520" cy="4723920"/>
          </a:xfrm>
        </p:grpSpPr>
        <p:sp>
          <p:nvSpPr>
            <p:cNvPr id="79" name="Text Box 26"/>
            <p:cNvSpPr/>
            <p:nvPr/>
          </p:nvSpPr>
          <p:spPr>
            <a:xfrm>
              <a:off x="457200" y="1651320"/>
              <a:ext cx="4025520" cy="42156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Byzantine Empire affected Russia not only with warfare, trade, but also with Christian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fore Rurik, Oleg, Slavs practiced native religion based on nature, with many g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63, Constantinople churchman sent two Greek monks to Moravia to convert Slavs to Christianity, brothers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yril and Methodi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7"/>
            <p:cNvSpPr/>
            <p:nvPr/>
          </p:nvSpPr>
          <p:spPr>
            <a:xfrm>
              <a:off x="457200" y="1143000"/>
              <a:ext cx="4025520" cy="5083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yril and Methodi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28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ianity in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57200" y="1143000"/>
            <a:ext cx="8229600" cy="1594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stabl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convert, Grand Du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ladimir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Ki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ptized a Christian; married sister of a Byzantine empe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 helped gain economic, political advantages from Byzantin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57200" y="4129200"/>
            <a:ext cx="8229600" cy="1594080"/>
          </a:xfrm>
          <a:prstGeom prst="rect">
            <a:avLst/>
          </a:prstGeom>
          <a:solidFill>
            <a:srgbClr val="80b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ussian Orthodox 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1054 schism, semi-independent church set up in Russia still linked to Orthodox Church in Constantin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ually became Russian Orthodox 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dimir made saint in new 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57200" y="2771640"/>
            <a:ext cx="8229600" cy="131976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if conversion politically motivated, he built libraries, schools, chur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988, Vladimir made Christianity state religion of Kievan 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spread, but tensions between branches of church grew w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ian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IT User</cp:lastModifiedBy>
  <cp:lastPrinted>2005-02-01T16:21:45Z</cp:lastPrinted>
  <dcterms:modified xsi:type="dcterms:W3CDTF">2011-04-04T06:58:52Z</dcterms:modified>
  <cp:revision>239</cp:revision>
  <dc:subject/>
  <dc:title>PowerPoint Presentation</dc:title>
</cp:coreProperties>
</file>